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12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9.png" ContentType="image/png"/>
  <Override PartName="/ppt/media/image34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2.jpeg" ContentType="image/jpeg"/>
  <Override PartName="/ppt/media/image36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64F4-BF0B-41F8-BAEF-690ED9C7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A132-4378-4C23-9261-9C4376A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F1E6-4CB6-49B4-9760-FE9A1B1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97A9-E096-4651-A25E-98181775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B98E-8813-42F2-862B-CB25082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CD69-9D63-4B81-B594-83DC0E20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2DA0-2A70-4372-9E78-2594EBD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FDC-0D98-4D48-A6A1-0C8EDB5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CC8-6F72-4467-918B-622BAFEB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DA2-63EF-4592-BABE-E3671D89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FC63-9931-4412-9537-33AB8FA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1C58-5887-454E-9FB9-8A79099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B3C-1C21-42BC-BB91-41EE4B4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C89-F601-4A07-9C61-7C63076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FD18-9D43-4144-A717-F445140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D3F-51CB-4929-AA1A-988137B4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B23F-F754-434B-9B8C-E514AF86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7F2B-B023-44FA-B6B2-2A3D7A0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19DC-3AC0-44AE-8738-32F9ECAA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10D4-E42E-47D8-ACAC-C76FA076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5DC2-176E-47DF-9402-B933F00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A4C4-7269-49E6-87D5-160B9D0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E40F-7007-4F1C-8832-E25DE69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ABC5-B77B-447E-96B8-0BE9901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19D2-016E-47A7-98A3-9D5E0D44D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240E-0145-45CE-AF7A-C45F09CBE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C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is the tangible part of a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ouse Hooks Up to a P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/2 Mo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/Cordless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s2"/>
          <p:cNvPicPr/>
          <p:nvPr/>
        </p:nvPicPr>
        <p:blipFill>
          <a:blip r:embed="rId1"/>
          <a:stretch/>
        </p:blipFill>
        <p:spPr>
          <a:xfrm>
            <a:off x="3505320" y="1447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inidin6m"/>
          <p:cNvPicPr/>
          <p:nvPr/>
        </p:nvPicPr>
        <p:blipFill>
          <a:blip r:embed="rId2"/>
          <a:stretch/>
        </p:blipFill>
        <p:spPr>
          <a:xfrm>
            <a:off x="6324480" y="1905120"/>
            <a:ext cx="259092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serial-mouse"/>
          <p:cNvPicPr/>
          <p:nvPr/>
        </p:nvPicPr>
        <p:blipFill>
          <a:blip r:embed="rId3"/>
          <a:stretch/>
        </p:blipFill>
        <p:spPr>
          <a:xfrm>
            <a:off x="5105520" y="4038480"/>
            <a:ext cx="1666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oint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rackball"/>
          <p:cNvPicPr/>
          <p:nvPr/>
        </p:nvPicPr>
        <p:blipFill>
          <a:blip r:embed="rId1"/>
          <a:stretch/>
        </p:blipFill>
        <p:spPr>
          <a:xfrm>
            <a:off x="3276720" y="1523880"/>
            <a:ext cx="2003400" cy="223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TrackPointII"/>
          <p:cNvPicPr/>
          <p:nvPr/>
        </p:nvPicPr>
        <p:blipFill>
          <a:blip r:embed="rId2"/>
          <a:stretch/>
        </p:blipFill>
        <p:spPr>
          <a:xfrm>
            <a:off x="6019920" y="1905120"/>
            <a:ext cx="1428480" cy="1733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touchpad"/>
          <p:cNvPicPr/>
          <p:nvPr/>
        </p:nvPicPr>
        <p:blipFill>
          <a:blip r:embed="rId3"/>
          <a:stretch/>
        </p:blipFill>
        <p:spPr>
          <a:xfrm>
            <a:off x="31240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wmr1"/>
          <p:cNvPicPr/>
          <p:nvPr/>
        </p:nvPicPr>
        <p:blipFill>
          <a:blip r:embed="rId4"/>
          <a:stretch/>
        </p:blipFill>
        <p:spPr>
          <a:xfrm>
            <a:off x="4876920" y="3581280"/>
            <a:ext cx="3209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5257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stick – input device for computer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Pens – light-sensitive penlik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us – penlike device commonly used with tablet PCs and P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5389" r="0" b="0"/>
          <a:stretch/>
        </p:blipFill>
        <p:spPr>
          <a:xfrm>
            <a:off x="5638680" y="2438280"/>
            <a:ext cx="2762280" cy="214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5715000" y="15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5181480" y="4648320"/>
            <a:ext cx="1962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nn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code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nd mark recogni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4762440" cy="20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362320" cy="154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762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Captur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Video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819240" cy="286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3352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Output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used by the computer in displaying its responses to our requests and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on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de Ray Tube (C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heap-computer-monitors"/>
          <p:cNvPicPr/>
          <p:nvPr/>
        </p:nvPicPr>
        <p:blipFill>
          <a:blip r:embed="rId1"/>
          <a:stretch/>
        </p:blipFill>
        <p:spPr>
          <a:xfrm>
            <a:off x="6629400" y="914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PRINTERS uses pressure by physically striking the paper. Ex. Daisy wheel printers, line printers, dot matrix printers &amp; band pr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MPACT PRINTER does not apply pressure on the paper but instead produces character by using lasers, ink spray, photography or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E17-3472main"/>
          <p:cNvPicPr/>
          <p:nvPr/>
        </p:nvPicPr>
        <p:blipFill>
          <a:blip r:embed="rId1"/>
          <a:stretch/>
        </p:blipFill>
        <p:spPr>
          <a:xfrm>
            <a:off x="685800" y="685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e26_big"/>
          <p:cNvPicPr/>
          <p:nvPr/>
        </p:nvPicPr>
        <p:blipFill>
          <a:blip r:embed="rId2"/>
          <a:stretch/>
        </p:blipFill>
        <p:spPr>
          <a:xfrm>
            <a:off x="609480" y="3505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0002A9SKQ"/>
          <p:cNvPicPr/>
          <p:nvPr/>
        </p:nvPicPr>
        <p:blipFill>
          <a:blip r:embed="rId3"/>
          <a:stretch/>
        </p:blipFill>
        <p:spPr>
          <a:xfrm>
            <a:off x="4419720" y="762120"/>
            <a:ext cx="3832200" cy="5105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3657600" y="6094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 matrix 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791320" y="5105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jet 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200400" y="52578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Secondary Storag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 to the computer system to allow you to store programs and data permanently for the purpose of retrieving them for future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py disk, Hard disk, CD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w01"/>
          <p:cNvPicPr/>
          <p:nvPr/>
        </p:nvPicPr>
        <p:blipFill>
          <a:blip r:embed="rId1"/>
          <a:stretch/>
        </p:blipFill>
        <p:spPr>
          <a:xfrm>
            <a:off x="685800" y="609480"/>
            <a:ext cx="74674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secondary storag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k – 1.44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inchfloppywithfloppy"/>
          <p:cNvPicPr/>
          <p:nvPr/>
        </p:nvPicPr>
        <p:blipFill>
          <a:blip r:embed="rId1"/>
          <a:stretch/>
        </p:blipFill>
        <p:spPr>
          <a:xfrm>
            <a:off x="4648320" y="2666880"/>
            <a:ext cx="41907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Capacity Floppy Dis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py disk cartri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½ inche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p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581280" y="3633840"/>
            <a:ext cx="5334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Disk Drive or Hard Di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f rigid materials unlike floppy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 greater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ard_disk_l"/>
          <p:cNvPicPr/>
          <p:nvPr/>
        </p:nvPicPr>
        <p:blipFill>
          <a:blip r:embed="rId1"/>
          <a:stretch/>
        </p:blipFill>
        <p:spPr>
          <a:xfrm>
            <a:off x="5105520" y="3200400"/>
            <a:ext cx="281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Dis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part of modern desktop machines, especially used for multimedia purposes and preferred in loading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drom"/>
          <p:cNvPicPr/>
          <p:nvPr/>
        </p:nvPicPr>
        <p:blipFill>
          <a:blip r:embed="rId1"/>
          <a:stretch/>
        </p:blipFill>
        <p:spPr>
          <a:xfrm>
            <a:off x="5334120" y="3657600"/>
            <a:ext cx="2895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Ray Disk – 40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Versatile D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D-R – write once, 3.9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D RW – rewritable,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ayer and Doubl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R – write once, 65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RW – rewritable, 70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Optical 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D-Writer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/write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VD-Combo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/write CDs, read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DVD Writer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/write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/write D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econdary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-Stat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memory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flash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13156" r="0" b="0"/>
          <a:stretch/>
        </p:blipFill>
        <p:spPr>
          <a:xfrm>
            <a:off x="4857840" y="1676520"/>
            <a:ext cx="4286160" cy="2514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114800" y="442440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hardware of a P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rocessing Unit (C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orag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Central Processing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of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irects and controls the entire computer system and performs all arithmetic and logical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Namdathloncpu"/>
          <p:cNvPicPr/>
          <p:nvPr/>
        </p:nvPicPr>
        <p:blipFill>
          <a:blip r:embed="rId1"/>
          <a:stretch/>
        </p:blipFill>
        <p:spPr>
          <a:xfrm>
            <a:off x="1295280" y="4038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pu_socket"/>
          <p:cNvPicPr/>
          <p:nvPr/>
        </p:nvPicPr>
        <p:blipFill>
          <a:blip r:embed="rId2"/>
          <a:stretch/>
        </p:blipFill>
        <p:spPr>
          <a:xfrm>
            <a:off x="4738680" y="3733920"/>
            <a:ext cx="2805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Memory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programs and data are stored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NLY MEMORY (ROM) contains the pre-programmed computer instructions such as the Basic Input Output System (BI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MEMORY (RAM) is used to store the programs and data that you will run.  Exists only when there is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1"/>
          <p:cNvPicPr/>
          <p:nvPr/>
        </p:nvPicPr>
        <p:blipFill>
          <a:blip r:embed="rId1"/>
          <a:stretch/>
        </p:blipFill>
        <p:spPr>
          <a:xfrm>
            <a:off x="6095880" y="1752480"/>
            <a:ext cx="155916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dram_dimms"/>
          <p:cNvPicPr/>
          <p:nvPr/>
        </p:nvPicPr>
        <p:blipFill>
          <a:blip r:embed="rId2"/>
          <a:stretch/>
        </p:blipFill>
        <p:spPr>
          <a:xfrm>
            <a:off x="5800680" y="4772160"/>
            <a:ext cx="326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Input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data and programs to be sent to the CP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keyboard-pc"/>
          <p:cNvPicPr/>
          <p:nvPr/>
        </p:nvPicPr>
        <p:blipFill>
          <a:blip r:embed="rId1"/>
          <a:stretch/>
        </p:blipFill>
        <p:spPr>
          <a:xfrm>
            <a:off x="3429000" y="266688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hoto_mouse"/>
          <p:cNvPicPr/>
          <p:nvPr/>
        </p:nvPicPr>
        <p:blipFill>
          <a:blip r:embed="rId2"/>
          <a:stretch/>
        </p:blipFill>
        <p:spPr>
          <a:xfrm>
            <a:off x="6095880" y="3733920"/>
            <a:ext cx="2581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ke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ke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 ke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ke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A ke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876840" cy="2028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295800" cy="216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3162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han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- a type of computer mouse that has a rubber or metal ball on its underside and it can roll in every directio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This type uses a laser for detecting the mouse's movemen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mouse-t2-3"/>
          <p:cNvPicPr/>
          <p:nvPr/>
        </p:nvPicPr>
        <p:blipFill>
          <a:blip r:embed="rId1"/>
          <a:srcRect l="0" t="0" r="27314" b="0"/>
          <a:stretch/>
        </p:blipFill>
        <p:spPr>
          <a:xfrm>
            <a:off x="6324480" y="1600200"/>
            <a:ext cx="15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6019920" y="4595760"/>
            <a:ext cx="24382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8:36Z</dcterms:created>
  <dc:creator>EDUMANGAS</dc:creator>
  <dc:description/>
  <dc:language>en-US</dc:language>
  <cp:lastModifiedBy>kaab zarrar</cp:lastModifiedBy>
  <dcterms:modified xsi:type="dcterms:W3CDTF">2020-03-26T09:18:15Z</dcterms:modified>
  <cp:revision>68</cp:revision>
  <dc:subject/>
  <dc:title>FUNDAMENTALS OF COMPUTER</dc:title>
</cp:coreProperties>
</file>